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5612-54B4-4F2F-BEEF-7DB72232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C122-AA11-43FA-8F12-86A87754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D2BA-1C2F-46A0-985F-0A26FF9F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FC8D-5F4B-4A0A-A085-1E560E84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E790-BC5C-4B5F-AEAB-7F512A3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6F26-A3CA-401C-8239-5D8A181C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13A8-7DA6-4907-886C-85CB6625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B389-8DC8-4FCC-81DE-C694C3B3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5AEB-23D9-427A-8D3C-D01C861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361-C4AB-453A-A6BB-6107427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0896-70E3-41CF-B89E-501AE76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F1C6-5AD1-42B1-B206-E4458B53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6027-B9B7-4868-9050-68D9A04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E41A-0BBB-4CC3-8C97-068DBB0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146-C8CB-4F7C-8C40-6E1B7EC3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EBB-1926-47B8-8EEF-FF92CF4A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0D78-35DD-44ED-92DB-58181B9A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E33F-026D-47DC-8F01-4BF34D3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4333-9F8E-4548-A174-D2D09FB9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EE41-ADBD-4CF6-AE82-267D666B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4F78-3001-4585-BCE6-A0AB93C0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C1A4-6BD3-4530-9601-C87CA9B7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8AF4-9D7B-464B-94FD-C9D250E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DFB7-18B7-4A7B-88DA-F3DD750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DD8-A636-4FAF-BDCA-15239C2F0F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BDC-16DC-48BB-8625-B7BE7F0BD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62864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ценочные техники и инструменты для формирующего оцени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бязательный минимум знаний по предмету доводится до сведения каждого учащегося в виде информационного листа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Сдача образовательных минимумов по основным предметам является обязательной после освоения материала программы в течение каждой четверт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бразовательные минимумы проводятся по следующим предметам: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4, 5, 6, 7 и 8 классы (по русскому языку и математике);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9, 10, и 11 классы (по русскому языку и математике </a:t>
            </a: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и двум профильным предметам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)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ценивание образовательного минимума осуществляется по зачетной системе, учащиеся </a:t>
            </a:r>
            <a:r>
              <a:rPr b="1" lang="en-US" sz="2000" spc="-1" strike="noStrike">
                <a:solidFill>
                  <a:srgbClr val="063c60"/>
                </a:solidFill>
                <a:latin typeface="Arial"/>
              </a:rPr>
              <a:t>получившие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 «незачет» в основной период сдачи минимумов, пересдают образовательный минимум до получения оценки «зачет»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000" spc="-1" strike="noStrike">
              <a:solidFill>
                <a:srgbClr val="063c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4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те уверены, что каждый ученик может ста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йте среду, способствующую партнёрству учителя 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ценивание, чтобы получать информацию об учении и препода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айте с учениками результаты оценивания и вместе устанавливайте ясные и достижимые учеб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братную связь, помогая ученикам определить свои следующие шаги и то, как их осущест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395280" y="1557360"/>
            <a:ext cx="360360" cy="358920"/>
            <a:chOff x="395280" y="1557360"/>
            <a:chExt cx="360360" cy="358920"/>
          </a:xfrm>
        </p:grpSpPr>
        <p:sp>
          <p:nvSpPr>
            <p:cNvPr id="189" name="Oval 7"/>
            <p:cNvSpPr/>
            <p:nvPr/>
          </p:nvSpPr>
          <p:spPr>
            <a:xfrm>
              <a:off x="395280" y="182916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395280" y="155736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395280" y="2276640"/>
            <a:ext cx="360360" cy="358560"/>
            <a:chOff x="395280" y="2276640"/>
            <a:chExt cx="360360" cy="358560"/>
          </a:xfrm>
        </p:grpSpPr>
        <p:sp>
          <p:nvSpPr>
            <p:cNvPr id="192" name="Oval 10"/>
            <p:cNvSpPr/>
            <p:nvPr/>
          </p:nvSpPr>
          <p:spPr>
            <a:xfrm>
              <a:off x="395280" y="2548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395280" y="2276640"/>
              <a:ext cx="360360" cy="35856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395280" y="3068640"/>
            <a:ext cx="360360" cy="358920"/>
            <a:chOff x="395280" y="3068640"/>
            <a:chExt cx="360360" cy="358920"/>
          </a:xfrm>
        </p:grpSpPr>
        <p:sp>
          <p:nvSpPr>
            <p:cNvPr id="195" name="Oval 13"/>
            <p:cNvSpPr/>
            <p:nvPr/>
          </p:nvSpPr>
          <p:spPr>
            <a:xfrm>
              <a:off x="395280" y="3340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4"/>
            <p:cNvSpPr/>
            <p:nvPr/>
          </p:nvSpPr>
          <p:spPr>
            <a:xfrm>
              <a:off x="395280" y="3068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395280" y="3860640"/>
            <a:ext cx="360360" cy="358920"/>
            <a:chOff x="395280" y="3860640"/>
            <a:chExt cx="360360" cy="358920"/>
          </a:xfrm>
        </p:grpSpPr>
        <p:sp>
          <p:nvSpPr>
            <p:cNvPr id="198" name="Oval 16"/>
            <p:cNvSpPr/>
            <p:nvPr/>
          </p:nvSpPr>
          <p:spPr>
            <a:xfrm>
              <a:off x="395280" y="4132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395280" y="3860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95280" y="4941720"/>
            <a:ext cx="360360" cy="358920"/>
            <a:chOff x="395280" y="4941720"/>
            <a:chExt cx="360360" cy="358920"/>
          </a:xfrm>
        </p:grpSpPr>
        <p:sp>
          <p:nvSpPr>
            <p:cNvPr id="201" name="Oval 19"/>
            <p:cNvSpPr/>
            <p:nvPr/>
          </p:nvSpPr>
          <p:spPr>
            <a:xfrm>
              <a:off x="395280" y="521352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>
              <a:off x="395280" y="494172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128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комендации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3"/>
          <p:cNvSpPr/>
          <p:nvPr/>
        </p:nvSpPr>
        <p:spPr>
          <a:xfrm>
            <a:off x="324000" y="530064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 rot="10800000">
            <a:off x="3203640" y="2636640"/>
            <a:ext cx="1008000" cy="12999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99960"/>
              <a:gd name="textAreaBottom" fmla="*/ 1300320 h 129996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5"/>
          <p:cNvGrpSpPr/>
          <p:nvPr/>
        </p:nvGrpSpPr>
        <p:grpSpPr>
          <a:xfrm>
            <a:off x="390600" y="2700360"/>
            <a:ext cx="3754440" cy="3670200"/>
            <a:chOff x="390600" y="2700360"/>
            <a:chExt cx="3754440" cy="3670200"/>
          </a:xfrm>
        </p:grpSpPr>
        <p:pic>
          <p:nvPicPr>
            <p:cNvPr id="102" name="Rectangle 5" descr=""/>
            <p:cNvPicPr/>
            <p:nvPr/>
          </p:nvPicPr>
          <p:blipFill>
            <a:blip r:embed="rId1"/>
            <a:stretch/>
          </p:blipFill>
          <p:spPr>
            <a:xfrm>
              <a:off x="390600" y="2700360"/>
              <a:ext cx="375444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2708280"/>
              <a:ext cx="37432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получения данных о текущем состоянии для определения ближайших шагов в направлении улучшения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6"/>
          <p:cNvSpPr/>
          <p:nvPr/>
        </p:nvSpPr>
        <p:spPr>
          <a:xfrm>
            <a:off x="4643280" y="5229360"/>
            <a:ext cx="1016280" cy="115560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 rot="10800000">
            <a:off x="7451640" y="263700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8"/>
          <p:cNvGrpSpPr/>
          <p:nvPr/>
        </p:nvGrpSpPr>
        <p:grpSpPr>
          <a:xfrm>
            <a:off x="4711680" y="2700360"/>
            <a:ext cx="3683160" cy="3597120"/>
            <a:chOff x="4711680" y="2700360"/>
            <a:chExt cx="3683160" cy="3597120"/>
          </a:xfrm>
        </p:grpSpPr>
        <p:pic>
          <p:nvPicPr>
            <p:cNvPr id="107" name="Rectangle 8" descr=""/>
            <p:cNvPicPr/>
            <p:nvPr/>
          </p:nvPicPr>
          <p:blipFill>
            <a:blip r:embed="rId2"/>
            <a:stretch/>
          </p:blipFill>
          <p:spPr>
            <a:xfrm>
              <a:off x="4711680" y="2700360"/>
              <a:ext cx="368316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16360" y="2708280"/>
              <a:ext cx="3672000" cy="35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определения количества изученного материала за пройденный перио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>
            <a:off x="324000" y="1773360"/>
            <a:ext cx="3816360" cy="57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ующе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0" y="1844640"/>
            <a:ext cx="380880" cy="380880"/>
            <a:chOff x="0" y="1844640"/>
            <a:chExt cx="380880" cy="380880"/>
          </a:xfrm>
        </p:grpSpPr>
        <p:sp>
          <p:nvSpPr>
            <p:cNvPr id="111" name="Oval 11"/>
            <p:cNvSpPr/>
            <p:nvPr/>
          </p:nvSpPr>
          <p:spPr>
            <a:xfrm>
              <a:off x="0" y="1844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21600" y="18658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41040" y="18856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41400" y="18860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60120" y="1904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60840" y="19054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5"/>
          <p:cNvSpPr/>
          <p:nvPr/>
        </p:nvSpPr>
        <p:spPr>
          <a:xfrm>
            <a:off x="4932360" y="1773360"/>
            <a:ext cx="34560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f84d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гово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4716360" y="1916280"/>
            <a:ext cx="381240" cy="380880"/>
            <a:chOff x="4716360" y="1916280"/>
            <a:chExt cx="381240" cy="380880"/>
          </a:xfrm>
        </p:grpSpPr>
        <p:sp>
          <p:nvSpPr>
            <p:cNvPr id="119" name="Oval 42"/>
            <p:cNvSpPr/>
            <p:nvPr/>
          </p:nvSpPr>
          <p:spPr>
            <a:xfrm>
              <a:off x="4716360" y="1916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>
              <a:off x="4737960" y="19375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>
              <a:off x="4757400" y="19573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>
              <a:off x="4757760" y="19576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>
              <a:off x="4776840" y="19764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>
              <a:off x="4777560" y="19771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8"/>
          <p:cNvSpPr/>
          <p:nvPr/>
        </p:nvSpPr>
        <p:spPr>
          <a:xfrm>
            <a:off x="250920" y="189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Два подхода к использованию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Формирующее оценивание – </a:t>
            </a:r>
            <a:br>
              <a:rPr sz="3600"/>
            </a:b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это «оценивание для обучения»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557360"/>
            <a:ext cx="831708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559640" y="1557360"/>
            <a:ext cx="1583640" cy="1654920"/>
            <a:chOff x="7559640" y="1557360"/>
            <a:chExt cx="1583640" cy="1654920"/>
          </a:xfrm>
        </p:grpSpPr>
        <p:grpSp>
          <p:nvGrpSpPr>
            <p:cNvPr id="129" name="Group 5"/>
            <p:cNvGrpSpPr/>
            <p:nvPr/>
          </p:nvGrpSpPr>
          <p:grpSpPr>
            <a:xfrm>
              <a:off x="7559640" y="1557360"/>
              <a:ext cx="1583640" cy="1654920"/>
              <a:chOff x="7559640" y="1557360"/>
              <a:chExt cx="1583640" cy="1654920"/>
            </a:xfrm>
          </p:grpSpPr>
          <p:sp>
            <p:nvSpPr>
              <p:cNvPr id="130" name="Oval 6"/>
              <p:cNvSpPr/>
              <p:nvPr/>
            </p:nvSpPr>
            <p:spPr>
              <a:xfrm>
                <a:off x="7559640" y="1557360"/>
                <a:ext cx="1583640" cy="1654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7740720" y="1584720"/>
                <a:ext cx="1221480" cy="624600"/>
              </a:xfrm>
              <a:custGeom>
                <a:avLst/>
                <a:gdLst>
                  <a:gd name="textAreaLeft" fmla="*/ 0 w 1221480"/>
                  <a:gd name="textAreaRight" fmla="*/ 1221840 w 1221480"/>
                  <a:gd name="textAreaTop" fmla="*/ 0 h 624600"/>
                  <a:gd name="textAreaBottom" fmla="*/ 624960 h 624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8"/>
            <p:cNvSpPr/>
            <p:nvPr/>
          </p:nvSpPr>
          <p:spPr>
            <a:xfrm>
              <a:off x="8292960" y="1741320"/>
              <a:ext cx="1828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9"/>
          <p:cNvSpPr/>
          <p:nvPr/>
        </p:nvSpPr>
        <p:spPr>
          <a:xfrm>
            <a:off x="-1116000" y="1557360"/>
            <a:ext cx="84247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механизм, обеспечивающий преподавателя информацие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оторая нужна ему, чтобы совершенствовать преподавание, находить наиболее эффективные методы обучения, а также мотивировать учеников более активно  включиться в свое у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357720"/>
            <a:ext cx="774072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7020000" y="3357720"/>
            <a:ext cx="1620000" cy="1656360"/>
            <a:chOff x="7020000" y="3357720"/>
            <a:chExt cx="1620000" cy="1656360"/>
          </a:xfrm>
        </p:grpSpPr>
        <p:grpSp>
          <p:nvGrpSpPr>
            <p:cNvPr id="136" name="Group 12"/>
            <p:cNvGrpSpPr/>
            <p:nvPr/>
          </p:nvGrpSpPr>
          <p:grpSpPr>
            <a:xfrm>
              <a:off x="7020000" y="3357720"/>
              <a:ext cx="1620000" cy="1656360"/>
              <a:chOff x="7020000" y="3357720"/>
              <a:chExt cx="1620000" cy="165636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7020000" y="3357720"/>
                <a:ext cx="1620000" cy="165636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7205040" y="3385080"/>
                <a:ext cx="1249560" cy="624960"/>
              </a:xfrm>
              <a:custGeom>
                <a:avLst/>
                <a:gdLst>
                  <a:gd name="textAreaLeft" fmla="*/ 0 w 1249560"/>
                  <a:gd name="textAreaRight" fmla="*/ 1249560 w 124956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5"/>
            <p:cNvSpPr/>
            <p:nvPr/>
          </p:nvSpPr>
          <p:spPr>
            <a:xfrm>
              <a:off x="7724520" y="3585240"/>
              <a:ext cx="18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3"/>
          <p:cNvSpPr/>
          <p:nvPr/>
        </p:nvSpPr>
        <p:spPr>
          <a:xfrm>
            <a:off x="3492360" y="429264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0" y="5229360"/>
            <a:ext cx="7056360" cy="151272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5"/>
          <p:cNvGrpSpPr/>
          <p:nvPr/>
        </p:nvGrpSpPr>
        <p:grpSpPr>
          <a:xfrm>
            <a:off x="6372360" y="5157720"/>
            <a:ext cx="1584360" cy="1584360"/>
            <a:chOff x="6372360" y="5157720"/>
            <a:chExt cx="1584360" cy="1584360"/>
          </a:xfrm>
        </p:grpSpPr>
        <p:sp>
          <p:nvSpPr>
            <p:cNvPr id="143" name="Oval 26"/>
            <p:cNvSpPr/>
            <p:nvPr/>
          </p:nvSpPr>
          <p:spPr>
            <a:xfrm>
              <a:off x="6372360" y="515772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6553440" y="5184000"/>
              <a:ext cx="1222200" cy="59796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1"/>
          <p:cNvSpPr/>
          <p:nvPr/>
        </p:nvSpPr>
        <p:spPr>
          <a:xfrm>
            <a:off x="250920" y="3357720"/>
            <a:ext cx="7488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обратная связь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Оно дает информацию о том, чему ученики обучились и как учатся в данный момент, а также о том, в какой степени преподаватель реализовал поставленные учебные цели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4000" y="5300640"/>
            <a:ext cx="6480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направляет учен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 выполнив задания, ученики узнают о том, какого уровня они достигли, пройдя тот или иной курс, и в каком направлении им нужно двигаться дальш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7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Техники формирующего оценивания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4000" y="3357720"/>
            <a:ext cx="2543040" cy="1311120"/>
          </a:xfrm>
          <a:prstGeom prst="roundRect">
            <a:avLst>
              <a:gd name="adj" fmla="val 12699"/>
            </a:avLst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95280" y="3573360"/>
            <a:ext cx="24480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9280" y="3716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осники самодиагност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042920" y="1628640"/>
            <a:ext cx="2543400" cy="129564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116000" y="1773360"/>
            <a:ext cx="24084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258920" y="19162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льные от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443640" y="3716280"/>
            <a:ext cx="2543040" cy="1154160"/>
          </a:xfrm>
          <a:prstGeom prst="roundRect">
            <a:avLst>
              <a:gd name="adj" fmla="val 12699"/>
            </a:avLst>
          </a:prstGeom>
          <a:solidFill>
            <a:srgbClr val="c7aa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516720" y="4005360"/>
            <a:ext cx="24080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475320" y="44434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88000" y="407664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б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971640" y="5300640"/>
            <a:ext cx="2543040" cy="122544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1042920" y="5516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116000" y="573408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2763360" y="2258280"/>
            <a:ext cx="3635640" cy="3620160"/>
            <a:chOff x="2763360" y="2258280"/>
            <a:chExt cx="3635640" cy="3620160"/>
          </a:xfrm>
        </p:grpSpPr>
        <p:sp>
          <p:nvSpPr>
            <p:cNvPr id="163" name="AutoShape 21"/>
            <p:cNvSpPr/>
            <p:nvPr/>
          </p:nvSpPr>
          <p:spPr>
            <a:xfrm rot="6774000">
              <a:off x="3228480" y="280980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7aa6f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rot="12174000">
              <a:off x="3171600" y="279216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598cf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 rot="17574600">
              <a:off x="3268080" y="268524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a060b"/>
                </a:gs>
                <a:gs pos="100000">
                  <a:srgbClr val="9e65b7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4"/>
            <p:cNvSpPr/>
            <p:nvPr/>
          </p:nvSpPr>
          <p:spPr>
            <a:xfrm rot="1374000">
              <a:off x="3310920" y="27424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ad955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27"/>
          <p:cNvSpPr/>
          <p:nvPr/>
        </p:nvSpPr>
        <p:spPr>
          <a:xfrm>
            <a:off x="6012000" y="1773360"/>
            <a:ext cx="2543040" cy="129672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6084720" y="2060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6227640" y="2205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ы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5508720" y="5300640"/>
            <a:ext cx="2543040" cy="136836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651640" y="55897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Georgia"/>
              </a:rPr>
              <a:t>Портфолио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4130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ая форма портфолио представляет собой коллекцию работ, целью которой является демонстрация образовательных достижений учащегося, являясь по сути альтернативным по отношению к традиционным формам (тест, экзамен) способом оценивания, портфолио позволяет решить дв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следить индивидуальный прогресс учащегося, достигнутый им в процессе обучения, вне сравнения с достижениями других учен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ить его образовательные достижения и дополнить (заменить) результаты тестирования и других х форм контро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Тетрадь формирования и отслеживания предметных и метапредметных умений.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663560"/>
          <a:ext cx="8496360" cy="5011920"/>
        </p:xfrm>
        <a:graphic>
          <a:graphicData uri="http://schemas.openxmlformats.org/drawingml/2006/table">
            <a:tbl>
              <a:tblPr/>
              <a:tblGrid>
                <a:gridCol w="242640"/>
                <a:gridCol w="1533600"/>
                <a:gridCol w="439920"/>
                <a:gridCol w="441360"/>
                <a:gridCol w="439560"/>
                <a:gridCol w="441360"/>
                <a:gridCol w="328680"/>
                <a:gridCol w="326880"/>
                <a:gridCol w="330120"/>
                <a:gridCol w="328680"/>
                <a:gridCol w="341280"/>
                <a:gridCol w="343080"/>
                <a:gridCol w="328680"/>
                <a:gridCol w="328320"/>
                <a:gridCol w="328680"/>
                <a:gridCol w="328680"/>
                <a:gridCol w="328680"/>
                <a:gridCol w="330120"/>
                <a:gridCol w="328680"/>
                <a:gridCol w="328680"/>
                <a:gridCol w="328680"/>
              </a:tblGrid>
              <a:tr h="175320"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амилия И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</a:tr>
              <a:tr h="21384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96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едагогическая диагностика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дагогическая диагностика – это совокупность специально подобранных и систематизированных заданий, которые позво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особенности усвоения учащимися предметных знаний, уме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характер трудностей ученика и установить их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уровень овладения 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зменения, происходящие в развити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ониторинг-карта развития учащегося ФГОС</a:t>
            </a:r>
            <a:br>
              <a:rPr sz="2800"/>
            </a:b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484280"/>
          <a:ext cx="5348160" cy="171360"/>
        </p:xfrm>
        <a:graphic>
          <a:graphicData uri="http://schemas.openxmlformats.org/drawingml/2006/table">
            <a:tbl>
              <a:tblPr/>
              <a:tblGrid>
                <a:gridCol w="345960"/>
                <a:gridCol w="1268280"/>
                <a:gridCol w="352440"/>
                <a:gridCol w="1400400"/>
                <a:gridCol w="309600"/>
                <a:gridCol w="1671480"/>
              </a:tblGrid>
              <a:tr h="1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Таблица 6" descr=""/>
          <p:cNvPicPr/>
          <p:nvPr/>
        </p:nvPicPr>
        <p:blipFill>
          <a:blip r:embed="rId1"/>
          <a:stretch/>
        </p:blipFill>
        <p:spPr>
          <a:xfrm>
            <a:off x="244440" y="1809720"/>
            <a:ext cx="8723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етодика «Образовательный минимум»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одной из возможных форм контроля предметных знаний учащихся и предоставляет широкие возможности для повышения эффективности внутренних систем оценки качества образования в современных образовательных организ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минимальная часть предметных знаний, которую обучающийся должен усвоить на определенном этапе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может включать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базовых понятий, ключевых терм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сио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, закономерносте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формулы, выражения и нераве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ы решения задач, действи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ие д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, таблицы, схемы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видов объектов или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0:44:27Z</dcterms:created>
  <dc:creator>Aelita</dc:creator>
  <dc:description/>
  <dc:language>en-US</dc:language>
  <cp:lastModifiedBy>Учитель</cp:lastModifiedBy>
  <dcterms:modified xsi:type="dcterms:W3CDTF">2018-01-29T05:55:00Z</dcterms:modified>
  <cp:revision>54</cp:revision>
  <dc:subject/>
  <dc:title>Themegallery PowerTemplate</dc:title>
</cp:coreProperties>
</file>